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BC74-13E1-4BC8-AA46-A629EE34D0B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EF0C-1E48-487D-8795-F898DEC66A2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we keep doing what we are doing we will keep getting what we are gett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nk back to your many prior experiences with well-designed learning,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both in and ou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school. What was the most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well-designed learning experience you have ever encountered a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earner? What features of the design -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not the teacher’s style or your interests - made th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ngaging and effective? (Design elements include: challenges posed, sequence of activiti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sources provided, assignments, assessments, groupings, site, teacher’s role, etc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riefly describe the design,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 sharing your recollections and analyses with your colleagues, build 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a list of general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hat follow from the accounts. What do well-designed learning experiences have in comm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 other words, what must be built in “by design” for any learning experience to be maxim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effective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and engaging for stud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The best designs for learning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D5A5-D577-42C7-A7AB-FC6CEADFE48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A78B-5FC4-47E9-AEFD-7F3BD497143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E7C9-683F-40EB-A2CD-C2574C4AB22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7B57-3E14-406B-85F0-9971AC7C455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8EBA-0CD0-4A4D-9748-1FBD4D2886F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AC65-B689-40A8-9962-E7BE9866E86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al – goal or challenge statement in sc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le – where is each student placed in this sc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dience – who will this task be performed in front of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tuation – the particular setting/context and its constraints and opportunities (physical and contextu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rformance – clearly articulate the performance or product exp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andards – what criteria will this work be judg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1391-C4CC-4E06-8485-E1ADF184685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2F9D-5724-4537-97FB-B2D1246D867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4888-575E-41F9-970D-00A646098AD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C0A2-59E9-4FFF-A098-3C3B225FAC8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C483-802A-45EE-9FA3-E2A5A339904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F256-F80F-476A-8B32-AF7DE0E9658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In this process we are the amateu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EFBA-ECB4-4D47-A623-2AC866DA03A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C5EF-3370-4AD0-9B66-35435A71DF8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8CA0-8A32-40E6-8846-D1C1577E08A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5B3F-183C-42D9-88C3-96134AD4486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EF02-A307-42FB-9E73-6B9122EE329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3FC6-E5F7-49B1-B606-2FDD1DF1FAC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are logical but they go against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re used to jumping to lesson and activity ideas before clarifying our performance goals for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inking through the assessments upfront, we ensure greater alignment of our goals, and therefore teaching is focused on the desire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e logic of a </a:t>
            </a:r>
            <a:r>
              <a:rPr b="0" i="1" lang="en-AU" sz="1200" spc="-1" strike="noStrike">
                <a:solidFill>
                  <a:srgbClr val="000000"/>
                </a:solidFill>
                <a:latin typeface="Arial"/>
              </a:rPr>
              <a:t>‘backward design’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approach to programming suggests a planning sequence for curriculum with three stages—Identify desired results, determine acceptable evidence, and plan learning experiences and instr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98CC-6EFD-45B8-81A3-AB55EE8E755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CB50-9C14-42D4-BF0B-2F531F52B03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1C8-8519-4904-9DBC-BF87AAF7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60F-242B-4673-B5B4-D0BA0948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4B8-00AE-4CAB-8ED9-93647BED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9D1-658C-41DA-874C-453ACEE6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E55-8173-4F45-98C5-27F83B36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ED0-1C09-4AE9-ADBE-5AC69B2E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9E5-B163-4FD7-9E06-0C1B4317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591-10CB-44EA-985B-C8A9F4C2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012-C211-4C69-964B-A1EB64C0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B65-0627-4E7E-A152-3CD216AE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1F4-60CF-4696-948C-08FD9BA1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948-6F86-414D-A923-BFA8E55B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63C6-3F40-4A23-91B8-B88CC431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B931-562F-48F0-B159-E827A200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281F-DFBA-45EA-8CE8-74A39BD2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BD58-D59D-4FCA-A06C-0A401773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ABC3A-9A29-4769-84FF-67831194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AF3C-0FFA-478C-BCC2-2AF7DE47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4042-C870-4F9E-A67F-80D97A82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239B-8BF9-44C8-A74A-32839B6B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9C08-0EC6-4D9B-9BEE-600027D2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9470-DCEA-4389-B144-B7D867A6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11E5-5AE5-4AC7-A94E-DD48B71B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7E46-8BB4-4CD9-A48A-9CAC3537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596360" y="5789520"/>
            <a:ext cx="558720" cy="8463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228600" y="5791320"/>
            <a:ext cx="7315200" cy="838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Department of Education 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Public Schools – Leading the Way     www.det.nsw.edu.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3" descr="Small Pic 4"/>
          <p:cNvPicPr/>
          <p:nvPr/>
        </p:nvPicPr>
        <p:blipFill>
          <a:blip r:embed="rId2"/>
          <a:stretch/>
        </p:blipFill>
        <p:spPr>
          <a:xfrm>
            <a:off x="8244000" y="5773680"/>
            <a:ext cx="68904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7596360" y="5789520"/>
            <a:ext cx="558720" cy="8463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28600" y="5791320"/>
            <a:ext cx="7315200" cy="838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Department of Education 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Public Schools – Leading the Way     www.det.nsw.edu.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Small Pic 4"/>
          <p:cNvPicPr/>
          <p:nvPr/>
        </p:nvPicPr>
        <p:blipFill>
          <a:blip r:embed="rId2"/>
          <a:stretch/>
        </p:blipFill>
        <p:spPr>
          <a:xfrm>
            <a:off x="8244000" y="5773680"/>
            <a:ext cx="68904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11B3-E4BD-4BFE-B3B7-B48680797463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7596360" y="5789520"/>
            <a:ext cx="558720" cy="8463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28600" y="5791320"/>
            <a:ext cx="7315200" cy="838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Department of Education 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Public Schools – Leading the Way     www.det.nsw.edu.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Small Pic 4"/>
          <p:cNvPicPr/>
          <p:nvPr/>
        </p:nvPicPr>
        <p:blipFill>
          <a:blip r:embed="rId2"/>
          <a:stretch/>
        </p:blipFill>
        <p:spPr>
          <a:xfrm>
            <a:off x="8244000" y="5773680"/>
            <a:ext cx="689040" cy="863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7152-A554-4EF3-8963-E43132C967A1}" type="slidenum">
              <a:rPr b="0" lang="en-A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130320" y="2201760"/>
            <a:ext cx="8762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ckward Mapping</a:t>
            </a:r>
            <a:br>
              <a:rPr sz="36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. . beginning with the end in mind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8600" y="4038480"/>
            <a:ext cx="990720" cy="1600200"/>
          </a:xfrm>
          <a:prstGeom prst="rect">
            <a:avLst/>
          </a:prstGeom>
          <a:solidFill>
            <a:srgbClr val="8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228600" y="5791320"/>
            <a:ext cx="8686800" cy="838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Department of Education &amp;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Public Schools – Leading the Way     www.det.nsw.edu.a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7" descr="Front pic 2"/>
          <p:cNvPicPr/>
          <p:nvPr/>
        </p:nvPicPr>
        <p:blipFill>
          <a:blip r:embed="rId1"/>
          <a:stretch/>
        </p:blipFill>
        <p:spPr>
          <a:xfrm>
            <a:off x="1332000" y="4043520"/>
            <a:ext cx="3024000" cy="1592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"/>
          <p:cNvPicPr/>
          <p:nvPr/>
        </p:nvPicPr>
        <p:blipFill>
          <a:blip r:embed="rId2"/>
          <a:stretch/>
        </p:blipFill>
        <p:spPr>
          <a:xfrm>
            <a:off x="4932360" y="309600"/>
            <a:ext cx="3960720" cy="2641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0" y="357120"/>
            <a:ext cx="492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ith Acknowledgement  to Angela Byron, Tracy Considine and Maria Sotiropoul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Fig 1.2"/>
          <p:cNvPicPr/>
          <p:nvPr/>
        </p:nvPicPr>
        <p:blipFill>
          <a:blip r:embed="rId1"/>
          <a:srcRect l="0" t="0" r="50865" b="0"/>
          <a:stretch/>
        </p:blipFill>
        <p:spPr>
          <a:xfrm>
            <a:off x="755640" y="189000"/>
            <a:ext cx="5000760" cy="554508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15"/>
          <p:cNvGrpSpPr/>
          <p:nvPr/>
        </p:nvGrpSpPr>
        <p:grpSpPr>
          <a:xfrm>
            <a:off x="4572000" y="836640"/>
            <a:ext cx="3960720" cy="576360"/>
            <a:chOff x="4572000" y="836640"/>
            <a:chExt cx="3960720" cy="576360"/>
          </a:xfrm>
        </p:grpSpPr>
        <p:sp>
          <p:nvSpPr>
            <p:cNvPr id="260" name="Rectangle 5"/>
            <p:cNvSpPr/>
            <p:nvPr/>
          </p:nvSpPr>
          <p:spPr>
            <a:xfrm>
              <a:off x="6084720" y="83664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6b4794"/>
                  </a:solidFill>
                  <a:latin typeface="Arial"/>
                </a:rPr>
                <a:t>nice to kn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6"/>
            <p:cNvSpPr/>
            <p:nvPr/>
          </p:nvSpPr>
          <p:spPr>
            <a:xfrm flipH="1">
              <a:off x="4572000" y="1125360"/>
              <a:ext cx="1512720" cy="0"/>
            </a:xfrm>
            <a:prstGeom prst="line">
              <a:avLst/>
            </a:prstGeom>
            <a:ln w="38160">
              <a:solidFill>
                <a:srgbClr val="6b4794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9"/>
          <p:cNvSpPr/>
          <p:nvPr/>
        </p:nvSpPr>
        <p:spPr>
          <a:xfrm>
            <a:off x="5797440" y="393228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6"/>
          <p:cNvGrpSpPr/>
          <p:nvPr/>
        </p:nvGrpSpPr>
        <p:grpSpPr>
          <a:xfrm>
            <a:off x="4500720" y="2205000"/>
            <a:ext cx="4429080" cy="1373760"/>
            <a:chOff x="4500720" y="2205000"/>
            <a:chExt cx="4429080" cy="1373760"/>
          </a:xfrm>
        </p:grpSpPr>
        <p:sp>
          <p:nvSpPr>
            <p:cNvPr id="264" name="Line 8"/>
            <p:cNvSpPr/>
            <p:nvPr/>
          </p:nvSpPr>
          <p:spPr>
            <a:xfrm flipH="1">
              <a:off x="4500720" y="2924280"/>
              <a:ext cx="1512720" cy="0"/>
            </a:xfrm>
            <a:prstGeom prst="line">
              <a:avLst/>
            </a:prstGeom>
            <a:ln w="38160">
              <a:solidFill>
                <a:srgbClr val="6b4794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6012000" y="2205000"/>
              <a:ext cx="29178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6b4794"/>
                  </a:solidFill>
                  <a:latin typeface="Arial"/>
                </a:rPr>
                <a:t>foundational knowledge and skil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7"/>
          <p:cNvGrpSpPr/>
          <p:nvPr/>
        </p:nvGrpSpPr>
        <p:grpSpPr>
          <a:xfrm>
            <a:off x="4140000" y="3789360"/>
            <a:ext cx="4824720" cy="1373760"/>
            <a:chOff x="4140000" y="3789360"/>
            <a:chExt cx="4824720" cy="1373760"/>
          </a:xfrm>
        </p:grpSpPr>
        <p:sp>
          <p:nvSpPr>
            <p:cNvPr id="267" name="Line 10"/>
            <p:cNvSpPr/>
            <p:nvPr/>
          </p:nvSpPr>
          <p:spPr>
            <a:xfrm flipH="1">
              <a:off x="4140000" y="4365720"/>
              <a:ext cx="1679400" cy="1440"/>
            </a:xfrm>
            <a:prstGeom prst="line">
              <a:avLst/>
            </a:prstGeom>
            <a:ln w="38160">
              <a:solidFill>
                <a:srgbClr val="6b4794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3"/>
            <p:cNvSpPr/>
            <p:nvPr/>
          </p:nvSpPr>
          <p:spPr>
            <a:xfrm>
              <a:off x="5867280" y="3789360"/>
              <a:ext cx="3097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6b4794"/>
                  </a:solidFill>
                  <a:latin typeface="Arial"/>
                </a:rPr>
                <a:t>‘</a:t>
              </a:r>
              <a:r>
                <a:rPr b="0" lang="en-AU" sz="2800" spc="-1" strike="noStrike">
                  <a:solidFill>
                    <a:srgbClr val="6b4794"/>
                  </a:solidFill>
                  <a:latin typeface="Arial"/>
                </a:rPr>
                <a:t>big ideas’ and core tasks worth exploring in dep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4"/>
          <p:cNvSpPr/>
          <p:nvPr/>
        </p:nvSpPr>
        <p:spPr>
          <a:xfrm>
            <a:off x="4792320" y="543888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6b4794"/>
                </a:solidFill>
                <a:latin typeface="Arial"/>
              </a:rPr>
              <a:t>Wiggins &amp; McTigh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dentifying the BIG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8"/>
          <p:cNvSpPr/>
          <p:nvPr/>
        </p:nvSpPr>
        <p:spPr>
          <a:xfrm>
            <a:off x="179280" y="6237360"/>
            <a:ext cx="1728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omic Sans MS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9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7215120" cy="43354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6"/>
          <p:cNvSpPr/>
          <p:nvPr/>
        </p:nvSpPr>
        <p:spPr>
          <a:xfrm>
            <a:off x="571680" y="5000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’ve got to go below the surface..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785880" y="2428920"/>
            <a:ext cx="7215120" cy="314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0" y="2666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to uncover th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Book Antiqua"/>
              </a:rPr>
              <a:t>really ‘big ideas.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500040" y="2214720"/>
            <a:ext cx="82152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will we know if students have achieved the desired results and met the syllabus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will we accept as evidence of student understanding and proficienc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ssessment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500040" y="22147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http://www.ascd.org/publications/books/198199/fig13.gif"/>
          <p:cNvPicPr/>
          <p:nvPr/>
        </p:nvPicPr>
        <p:blipFill>
          <a:blip r:embed="rId1"/>
          <a:stretch/>
        </p:blipFill>
        <p:spPr>
          <a:xfrm>
            <a:off x="571680" y="3143160"/>
            <a:ext cx="7835760" cy="1071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GRAS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4995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b4794"/>
                </a:solidFill>
                <a:latin typeface="Arial"/>
              </a:rPr>
              <a:t>G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b4794"/>
                </a:solidFill>
                <a:latin typeface="Arial"/>
              </a:rPr>
              <a:t>R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b4794"/>
                </a:solidFill>
                <a:latin typeface="Arial"/>
              </a:rPr>
              <a:t>A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b4794"/>
                </a:solidFill>
                <a:latin typeface="Arial"/>
              </a:rPr>
              <a:t>S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b4794"/>
                </a:solidFill>
                <a:latin typeface="Arial"/>
              </a:rPr>
              <a:t>P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b4794"/>
                </a:solidFill>
                <a:latin typeface="Arial"/>
              </a:rPr>
              <a:t>S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lan learning experiences and instr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714240" y="22147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nowledge will students need to perform effectiv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ctivities will be needed to allow students to construct their own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need to be tau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4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4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arning experiences must b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928800" y="1357200"/>
            <a:ext cx="6643440" cy="4500360"/>
            <a:chOff x="928800" y="1357200"/>
            <a:chExt cx="6643440" cy="4500360"/>
          </a:xfrm>
        </p:grpSpPr>
        <p:grpSp>
          <p:nvGrpSpPr>
            <p:cNvPr id="289" name="Group 4"/>
            <p:cNvGrpSpPr/>
            <p:nvPr/>
          </p:nvGrpSpPr>
          <p:grpSpPr>
            <a:xfrm>
              <a:off x="928800" y="1428480"/>
              <a:ext cx="4248720" cy="4223520"/>
              <a:chOff x="928800" y="1428480"/>
              <a:chExt cx="4248720" cy="4223520"/>
            </a:xfrm>
          </p:grpSpPr>
          <p:sp>
            <p:nvSpPr>
              <p:cNvPr id="290" name="Oval 5"/>
              <p:cNvSpPr/>
              <p:nvPr/>
            </p:nvSpPr>
            <p:spPr>
              <a:xfrm>
                <a:off x="928800" y="1428480"/>
                <a:ext cx="4248720" cy="4205880"/>
              </a:xfrm>
              <a:prstGeom prst="ellipse">
                <a:avLst/>
              </a:prstGeom>
              <a:noFill/>
              <a:ln w="101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"/>
              <p:cNvSpPr/>
              <p:nvPr/>
            </p:nvSpPr>
            <p:spPr>
              <a:xfrm>
                <a:off x="1785600" y="1714320"/>
                <a:ext cx="1267200" cy="39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74304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7"/>
            <p:cNvGrpSpPr/>
            <p:nvPr/>
          </p:nvGrpSpPr>
          <p:grpSpPr>
            <a:xfrm>
              <a:off x="3323520" y="1357200"/>
              <a:ext cx="4248720" cy="4500360"/>
              <a:chOff x="3323520" y="1357200"/>
              <a:chExt cx="4248720" cy="4500360"/>
            </a:xfrm>
          </p:grpSpPr>
          <p:sp>
            <p:nvSpPr>
              <p:cNvPr id="293" name="Oval 8"/>
              <p:cNvSpPr/>
              <p:nvPr/>
            </p:nvSpPr>
            <p:spPr>
              <a:xfrm>
                <a:off x="3323520" y="1357200"/>
                <a:ext cx="4248720" cy="4277520"/>
              </a:xfrm>
              <a:prstGeom prst="ellipse">
                <a:avLst/>
              </a:prstGeom>
              <a:noFill/>
              <a:ln w="101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9"/>
              <p:cNvSpPr/>
              <p:nvPr/>
            </p:nvSpPr>
            <p:spPr>
              <a:xfrm>
                <a:off x="5186520" y="1919520"/>
                <a:ext cx="1267200" cy="39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lvl="1" marL="80820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80820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80820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808200" indent="-285840"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ow does this align to our Quality Teaching targets for this pro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cuses on developing deep knowledge and deep understanding through careful planning of learning experie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cuses on deep understanding through consideration early in the process of the anticipated evidence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cuses on high expectations through designing authentic assessment task with explicit quality criteria negotiated with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ere are we head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55640" y="217980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If the ladder is not leaning against the right wall, every step we take gets us to the wrong place fast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tarting your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85840" y="1143000"/>
          <a:ext cx="8572320" cy="4560840"/>
        </p:xfrm>
        <a:graphic>
          <a:graphicData uri="http://schemas.openxmlformats.org/drawingml/2006/table">
            <a:tbl>
              <a:tblPr/>
              <a:tblGrid>
                <a:gridCol w="1000080"/>
                <a:gridCol w="7572240"/>
              </a:tblGrid>
              <a:tr h="57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re we hea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ill the student be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hooked’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opportunities will there be to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e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ey idea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will provide opportunities to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hink, rehears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ine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ill students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ir work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ill the work be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ailored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individual needs, interests and styles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will the work be </a:t>
                      </a:r>
                      <a:r>
                        <a:rPr b="0" i="1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ed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maximum engagement and effectiveness?</a:t>
                      </a:r>
                      <a:r>
                        <a:rPr b="0" lang="en-A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ality Teach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4794"/>
                </a:solidFill>
                <a:latin typeface="Arial"/>
              </a:rPr>
              <a:t>What do we want the students to learn?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Why does this learning mat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How will they demonstrate their learn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How well do we expect them to do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 the words of Covey 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250920" y="1413000"/>
            <a:ext cx="856908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  <a:ea typeface="Arial"/>
              </a:rPr>
              <a:t>“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  <a:ea typeface="Arial"/>
              </a:rPr>
              <a:t>To begin with the end in mind means to start with a clear understanding of your destinatio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  <a:ea typeface="Arial"/>
              </a:rPr>
              <a:t>It means to know where you’re going so that you better understand where you are now so that the steps you take are always in the right direction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6b4794"/>
                </a:solidFill>
                <a:latin typeface="Arial"/>
                <a:ea typeface="Arial"/>
              </a:rPr>
              <a:t>Stephen R Cove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6b4794"/>
                </a:solidFill>
                <a:latin typeface="Arial"/>
                <a:ea typeface="Arial"/>
              </a:rPr>
              <a:t>“</a:t>
            </a:r>
            <a:r>
              <a:rPr b="0" i="1" lang="en-US" sz="2000" spc="-1" strike="noStrike">
                <a:solidFill>
                  <a:srgbClr val="6b4794"/>
                </a:solidFill>
                <a:latin typeface="Arial"/>
                <a:ea typeface="Arial"/>
              </a:rPr>
              <a:t>The Seven Habits Of Highly Effective Peop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42600" y="571680"/>
            <a:ext cx="377028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ll I really need to know about curriculum change, I learned from the Story of Noah’s Ar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MCSO00888_0000[1]"/>
          <p:cNvPicPr/>
          <p:nvPr/>
        </p:nvPicPr>
        <p:blipFill>
          <a:blip r:embed="rId1"/>
          <a:stretch/>
        </p:blipFill>
        <p:spPr>
          <a:xfrm>
            <a:off x="4929120" y="1785960"/>
            <a:ext cx="3456000" cy="2757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1"/>
          <p:cNvSpPr/>
          <p:nvPr/>
        </p:nvSpPr>
        <p:spPr>
          <a:xfrm>
            <a:off x="1332000" y="692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In conclusio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Noah’s lessons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on’t miss the boa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on’t forget we’re all in the same 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lanning is important – it wasn’t raining when Noah built the 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on’t listen to critics – just get on with what has to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safety’s sake, travel in pairs (te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Build your future on high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peed isn’t always an advantage; after all the snails were on the same ark with the cheeta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nd finally, remember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56800" y="1785600"/>
            <a:ext cx="3589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k was built by amateurs 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Titanic was built by professiona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Titanic - Sinking"/>
          <p:cNvPicPr/>
          <p:nvPr/>
        </p:nvPicPr>
        <p:blipFill>
          <a:blip r:embed="rId1"/>
          <a:stretch/>
        </p:blipFill>
        <p:spPr>
          <a:xfrm>
            <a:off x="5357880" y="1285920"/>
            <a:ext cx="31338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at is backward mapp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Pic 1"/>
          <p:cNvPicPr/>
          <p:nvPr/>
        </p:nvPicPr>
        <p:blipFill>
          <a:blip r:embed="rId1"/>
          <a:stretch/>
        </p:blipFill>
        <p:spPr>
          <a:xfrm>
            <a:off x="5486400" y="228600"/>
            <a:ext cx="3390840" cy="54007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304920" y="2133720"/>
            <a:ext cx="4952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A framework used to improve curriculum design in order to develop and deepen students’ understanding.</a:t>
            </a:r>
            <a:r>
              <a:rPr b="0" i="1" lang="en-AU" sz="3200" spc="-1" strike="noStrike">
                <a:solidFill>
                  <a:srgbClr val="6b479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ere did it com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762200" y="2266920"/>
            <a:ext cx="555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Jay McTighe &amp; Grant Wig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6b4794"/>
                </a:solidFill>
                <a:latin typeface="Arial"/>
              </a:rPr>
              <a:t>“</a:t>
            </a:r>
            <a:r>
              <a:rPr b="0" i="1" lang="en-AU" sz="3200" spc="-1" strike="noStrike">
                <a:solidFill>
                  <a:srgbClr val="6b4794"/>
                </a:solidFill>
                <a:latin typeface="Arial"/>
              </a:rPr>
              <a:t>Understanding by Design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y the backward mapping frame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39640" y="2195640"/>
            <a:ext cx="81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6b4794"/>
                </a:solidFill>
                <a:latin typeface="Arial"/>
              </a:rPr>
              <a:t>Without building courses ‘backward’ from key tasks, big ideas and performance standards, there are no clear prior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Wiggins &amp; McTighe ‘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hy the backward mapping frame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539640" y="2195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By thinking through the assessment upfront, we ensure greater alignment of our goals and therefore teaching is focused on the desired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Backward Mapping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77564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6b4794"/>
                </a:solidFill>
                <a:uFillTx/>
                <a:latin typeface="Arial"/>
              </a:rPr>
              <a:t>Stage 1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: Desire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6b4794"/>
                </a:solidFill>
                <a:uFillTx/>
                <a:latin typeface="Arial"/>
              </a:rPr>
              <a:t>Stage 2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: Assessment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6b47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6b4794"/>
                </a:solidFill>
                <a:uFillTx/>
                <a:latin typeface="Arial"/>
              </a:rPr>
              <a:t>Stage 3</a:t>
            </a:r>
            <a:r>
              <a:rPr b="0" lang="en-AU" sz="3200" spc="-1" strike="noStrike">
                <a:solidFill>
                  <a:srgbClr val="6b4794"/>
                </a:solidFill>
                <a:latin typeface="Arial"/>
              </a:rPr>
              <a:t>: Learning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4"/>
          <p:cNvGrpSpPr/>
          <p:nvPr/>
        </p:nvGrpSpPr>
        <p:grpSpPr>
          <a:xfrm>
            <a:off x="4859280" y="1020600"/>
            <a:ext cx="3813120" cy="5410080"/>
            <a:chOff x="4859280" y="1020600"/>
            <a:chExt cx="3813120" cy="5410080"/>
          </a:xfrm>
        </p:grpSpPr>
        <p:sp>
          <p:nvSpPr>
            <p:cNvPr id="156" name="AutoShape 5"/>
            <p:cNvSpPr/>
            <p:nvPr/>
          </p:nvSpPr>
          <p:spPr>
            <a:xfrm>
              <a:off x="6914880" y="1768320"/>
              <a:ext cx="1649520" cy="1316160"/>
            </a:xfrm>
            <a:prstGeom prst="roundRect">
              <a:avLst>
                <a:gd name="adj" fmla="val 10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5076720" y="1020600"/>
              <a:ext cx="3595680" cy="54100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5090760" y="3162240"/>
              <a:ext cx="3581640" cy="21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6279840" y="3206520"/>
              <a:ext cx="1268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Assessment Evid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5090760" y="4871880"/>
              <a:ext cx="3581640" cy="21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0"/>
            <p:cNvSpPr/>
            <p:nvPr/>
          </p:nvSpPr>
          <p:spPr>
            <a:xfrm>
              <a:off x="6357960" y="4906800"/>
              <a:ext cx="58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imes New Roman"/>
                </a:rPr>
                <a:t>Learning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6846120" y="490680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5106600" y="1469880"/>
              <a:ext cx="3559320" cy="21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5223960" y="1496880"/>
              <a:ext cx="335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Understandings                    Essential Ques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4"/>
            <p:cNvSpPr/>
            <p:nvPr/>
          </p:nvSpPr>
          <p:spPr>
            <a:xfrm>
              <a:off x="4946400" y="3249360"/>
              <a:ext cx="101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V="1">
              <a:off x="4938480" y="471456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4938480" y="461160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4938480" y="451008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8"/>
            <p:cNvSpPr/>
            <p:nvPr/>
          </p:nvSpPr>
          <p:spPr>
            <a:xfrm flipV="1">
              <a:off x="4938480" y="439884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9"/>
            <p:cNvSpPr/>
            <p:nvPr/>
          </p:nvSpPr>
          <p:spPr>
            <a:xfrm flipV="1">
              <a:off x="4938480" y="429732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0"/>
            <p:cNvSpPr/>
            <p:nvPr/>
          </p:nvSpPr>
          <p:spPr>
            <a:xfrm flipV="1">
              <a:off x="4938480" y="4194000"/>
              <a:ext cx="1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 flipV="1">
              <a:off x="4938480" y="408456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2"/>
            <p:cNvSpPr/>
            <p:nvPr/>
          </p:nvSpPr>
          <p:spPr>
            <a:xfrm flipV="1">
              <a:off x="4938480" y="398088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3"/>
            <p:cNvSpPr/>
            <p:nvPr/>
          </p:nvSpPr>
          <p:spPr>
            <a:xfrm flipV="1">
              <a:off x="4938480" y="387972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4"/>
            <p:cNvSpPr/>
            <p:nvPr/>
          </p:nvSpPr>
          <p:spPr>
            <a:xfrm flipV="1">
              <a:off x="4938480" y="376812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5"/>
            <p:cNvSpPr/>
            <p:nvPr/>
          </p:nvSpPr>
          <p:spPr>
            <a:xfrm flipV="1">
              <a:off x="4938480" y="366696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6"/>
            <p:cNvSpPr/>
            <p:nvPr/>
          </p:nvSpPr>
          <p:spPr>
            <a:xfrm flipV="1">
              <a:off x="4938480" y="356328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V="1">
              <a:off x="4938480" y="345384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8"/>
            <p:cNvSpPr/>
            <p:nvPr/>
          </p:nvSpPr>
          <p:spPr>
            <a:xfrm flipV="1">
              <a:off x="4938480" y="335052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9"/>
            <p:cNvSpPr/>
            <p:nvPr/>
          </p:nvSpPr>
          <p:spPr>
            <a:xfrm flipV="1">
              <a:off x="4938480" y="324900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0"/>
            <p:cNvSpPr/>
            <p:nvPr/>
          </p:nvSpPr>
          <p:spPr>
            <a:xfrm>
              <a:off x="4938480" y="4792680"/>
              <a:ext cx="10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1"/>
            <p:cNvSpPr/>
            <p:nvPr/>
          </p:nvSpPr>
          <p:spPr>
            <a:xfrm>
              <a:off x="4946400" y="4981320"/>
              <a:ext cx="93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2"/>
            <p:cNvSpPr/>
            <p:nvPr/>
          </p:nvSpPr>
          <p:spPr>
            <a:xfrm>
              <a:off x="4938480" y="6343560"/>
              <a:ext cx="10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>
              <a:off x="4867200" y="3627360"/>
              <a:ext cx="144360" cy="803160"/>
            </a:xfrm>
            <a:custGeom>
              <a:avLst/>
              <a:gdLst>
                <a:gd name="textAreaLeft" fmla="*/ 19440 w 144360"/>
                <a:gd name="textAreaRight" fmla="*/ 124920 w 144360"/>
                <a:gd name="textAreaTop" fmla="*/ 19440 h 803160"/>
                <a:gd name="textAreaBottom" fmla="*/ 783720 h 803160"/>
              </a:gdLst>
              <a:ahLst/>
              <a:rect l="textAreaLeft" t="textAreaTop" r="textAreaRight" b="textAreaBottom"/>
              <a:pathLst>
                <a:path w="21600" h="119928">
                  <a:moveTo>
                    <a:pt x="9969" y="0"/>
                  </a:moveTo>
                  <a:arcTo wR="9969" hR="9969" stAng="16200000" swAng="-5400000"/>
                  <a:lnTo>
                    <a:pt x="0" y="109959"/>
                  </a:lnTo>
                  <a:arcTo wR="9969" hR="9969" stAng="10800000" swAng="-5400000"/>
                  <a:lnTo>
                    <a:pt x="11631" y="119928"/>
                  </a:lnTo>
                  <a:arcTo wR="9969" hR="9969" stAng="5400000" swAng="-5400000"/>
                  <a:lnTo>
                    <a:pt x="21600" y="9969"/>
                  </a:lnTo>
                  <a:arcTo wR="9969" hR="9969" stAng="0" swAng="-5400000"/>
                  <a:close/>
                </a:path>
              </a:pathLst>
            </a:custGeom>
            <a:solidFill>
              <a:srgbClr val="f0ccda"/>
            </a:solidFill>
            <a:ln w="9360">
              <a:solidFill>
                <a:srgbClr val="f0cc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4"/>
            <p:cNvSpPr/>
            <p:nvPr/>
          </p:nvSpPr>
          <p:spPr>
            <a:xfrm>
              <a:off x="4937760" y="365436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5"/>
            <p:cNvSpPr/>
            <p:nvPr/>
          </p:nvSpPr>
          <p:spPr>
            <a:xfrm>
              <a:off x="4939560" y="3749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6"/>
            <p:cNvSpPr/>
            <p:nvPr/>
          </p:nvSpPr>
          <p:spPr>
            <a:xfrm>
              <a:off x="4933800" y="3843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7"/>
            <p:cNvSpPr/>
            <p:nvPr/>
          </p:nvSpPr>
          <p:spPr>
            <a:xfrm>
              <a:off x="4938480" y="3938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38"/>
            <p:cNvSpPr/>
            <p:nvPr/>
          </p:nvSpPr>
          <p:spPr>
            <a:xfrm>
              <a:off x="4937040" y="4032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39"/>
            <p:cNvSpPr/>
            <p:nvPr/>
          </p:nvSpPr>
          <p:spPr>
            <a:xfrm>
              <a:off x="4937040" y="4244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 flipV="1">
              <a:off x="4932000" y="626580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1"/>
            <p:cNvSpPr/>
            <p:nvPr/>
          </p:nvSpPr>
          <p:spPr>
            <a:xfrm flipV="1">
              <a:off x="4932000" y="616212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2"/>
            <p:cNvSpPr/>
            <p:nvPr/>
          </p:nvSpPr>
          <p:spPr>
            <a:xfrm flipV="1">
              <a:off x="4932000" y="605304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3"/>
            <p:cNvSpPr/>
            <p:nvPr/>
          </p:nvSpPr>
          <p:spPr>
            <a:xfrm flipV="1">
              <a:off x="4932000" y="594936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4"/>
            <p:cNvSpPr/>
            <p:nvPr/>
          </p:nvSpPr>
          <p:spPr>
            <a:xfrm flipV="1">
              <a:off x="4932000" y="584028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5"/>
            <p:cNvSpPr/>
            <p:nvPr/>
          </p:nvSpPr>
          <p:spPr>
            <a:xfrm flipV="1">
              <a:off x="4932000" y="572868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6"/>
            <p:cNvSpPr/>
            <p:nvPr/>
          </p:nvSpPr>
          <p:spPr>
            <a:xfrm flipV="1">
              <a:off x="4932000" y="562752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7"/>
            <p:cNvSpPr/>
            <p:nvPr/>
          </p:nvSpPr>
          <p:spPr>
            <a:xfrm flipV="1">
              <a:off x="4932000" y="551808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8"/>
            <p:cNvSpPr/>
            <p:nvPr/>
          </p:nvSpPr>
          <p:spPr>
            <a:xfrm flipV="1">
              <a:off x="4932000" y="54144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49"/>
            <p:cNvSpPr/>
            <p:nvPr/>
          </p:nvSpPr>
          <p:spPr>
            <a:xfrm flipV="1">
              <a:off x="4932000" y="5305320"/>
              <a:ext cx="6480" cy="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0"/>
            <p:cNvSpPr/>
            <p:nvPr/>
          </p:nvSpPr>
          <p:spPr>
            <a:xfrm flipV="1">
              <a:off x="4938480" y="519372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1"/>
            <p:cNvSpPr/>
            <p:nvPr/>
          </p:nvSpPr>
          <p:spPr>
            <a:xfrm flipV="1">
              <a:off x="4938480" y="5092560"/>
              <a:ext cx="144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2"/>
            <p:cNvSpPr/>
            <p:nvPr/>
          </p:nvSpPr>
          <p:spPr>
            <a:xfrm flipV="1">
              <a:off x="4938480" y="4980960"/>
              <a:ext cx="14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53"/>
            <p:cNvSpPr/>
            <p:nvPr/>
          </p:nvSpPr>
          <p:spPr>
            <a:xfrm>
              <a:off x="4867200" y="5265720"/>
              <a:ext cx="144360" cy="803160"/>
            </a:xfrm>
            <a:custGeom>
              <a:avLst/>
              <a:gdLst>
                <a:gd name="textAreaLeft" fmla="*/ 19440 w 144360"/>
                <a:gd name="textAreaRight" fmla="*/ 124920 w 144360"/>
                <a:gd name="textAreaTop" fmla="*/ 19440 h 803160"/>
                <a:gd name="textAreaBottom" fmla="*/ 783720 h 803160"/>
              </a:gdLst>
              <a:ahLst/>
              <a:rect l="textAreaLeft" t="textAreaTop" r="textAreaRight" b="textAreaBottom"/>
              <a:pathLst>
                <a:path w="21600" h="119928">
                  <a:moveTo>
                    <a:pt x="9969" y="0"/>
                  </a:moveTo>
                  <a:arcTo wR="9969" hR="9969" stAng="16200000" swAng="-5400000"/>
                  <a:lnTo>
                    <a:pt x="0" y="109959"/>
                  </a:lnTo>
                  <a:arcTo wR="9969" hR="9969" stAng="10800000" swAng="-5400000"/>
                  <a:lnTo>
                    <a:pt x="11631" y="119928"/>
                  </a:lnTo>
                  <a:arcTo wR="9969" hR="9969" stAng="5400000" swAng="-5400000"/>
                  <a:lnTo>
                    <a:pt x="21600" y="9969"/>
                  </a:lnTo>
                  <a:arcTo wR="9969" hR="9969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4"/>
            <p:cNvSpPr/>
            <p:nvPr/>
          </p:nvSpPr>
          <p:spPr>
            <a:xfrm>
              <a:off x="4937760" y="52927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5"/>
            <p:cNvSpPr/>
            <p:nvPr/>
          </p:nvSpPr>
          <p:spPr>
            <a:xfrm>
              <a:off x="4939560" y="53877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6"/>
            <p:cNvSpPr/>
            <p:nvPr/>
          </p:nvSpPr>
          <p:spPr>
            <a:xfrm>
              <a:off x="4933800" y="5481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57"/>
            <p:cNvSpPr/>
            <p:nvPr/>
          </p:nvSpPr>
          <p:spPr>
            <a:xfrm>
              <a:off x="4938480" y="5576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58"/>
            <p:cNvSpPr/>
            <p:nvPr/>
          </p:nvSpPr>
          <p:spPr>
            <a:xfrm>
              <a:off x="4937040" y="5670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59"/>
            <p:cNvSpPr/>
            <p:nvPr/>
          </p:nvSpPr>
          <p:spPr>
            <a:xfrm>
              <a:off x="4937040" y="5883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60"/>
            <p:cNvSpPr/>
            <p:nvPr/>
          </p:nvSpPr>
          <p:spPr>
            <a:xfrm>
              <a:off x="5133240" y="1079280"/>
              <a:ext cx="82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Standard(s)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61"/>
            <p:cNvSpPr/>
            <p:nvPr/>
          </p:nvSpPr>
          <p:spPr>
            <a:xfrm>
              <a:off x="4938480" y="1547640"/>
              <a:ext cx="101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2"/>
            <p:cNvSpPr/>
            <p:nvPr/>
          </p:nvSpPr>
          <p:spPr>
            <a:xfrm flipV="1">
              <a:off x="4932000" y="30204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3"/>
            <p:cNvSpPr/>
            <p:nvPr/>
          </p:nvSpPr>
          <p:spPr>
            <a:xfrm flipV="1">
              <a:off x="4932000" y="291924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4"/>
            <p:cNvSpPr/>
            <p:nvPr/>
          </p:nvSpPr>
          <p:spPr>
            <a:xfrm flipV="1">
              <a:off x="4932000" y="280764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5"/>
            <p:cNvSpPr/>
            <p:nvPr/>
          </p:nvSpPr>
          <p:spPr>
            <a:xfrm flipV="1">
              <a:off x="4932000" y="270648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6"/>
            <p:cNvSpPr/>
            <p:nvPr/>
          </p:nvSpPr>
          <p:spPr>
            <a:xfrm flipV="1">
              <a:off x="4932000" y="2602800"/>
              <a:ext cx="18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67"/>
            <p:cNvSpPr/>
            <p:nvPr/>
          </p:nvSpPr>
          <p:spPr>
            <a:xfrm flipV="1">
              <a:off x="4932000" y="249372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68"/>
            <p:cNvSpPr/>
            <p:nvPr/>
          </p:nvSpPr>
          <p:spPr>
            <a:xfrm flipV="1">
              <a:off x="4932000" y="239076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9"/>
            <p:cNvSpPr/>
            <p:nvPr/>
          </p:nvSpPr>
          <p:spPr>
            <a:xfrm flipV="1">
              <a:off x="4932000" y="228888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70"/>
            <p:cNvSpPr/>
            <p:nvPr/>
          </p:nvSpPr>
          <p:spPr>
            <a:xfrm flipV="1">
              <a:off x="4932000" y="217800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71"/>
            <p:cNvSpPr/>
            <p:nvPr/>
          </p:nvSpPr>
          <p:spPr>
            <a:xfrm flipV="1">
              <a:off x="4932000" y="207612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2"/>
            <p:cNvSpPr/>
            <p:nvPr/>
          </p:nvSpPr>
          <p:spPr>
            <a:xfrm flipV="1">
              <a:off x="4932000" y="197316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3"/>
            <p:cNvSpPr/>
            <p:nvPr/>
          </p:nvSpPr>
          <p:spPr>
            <a:xfrm flipV="1">
              <a:off x="4932000" y="186372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4"/>
            <p:cNvSpPr/>
            <p:nvPr/>
          </p:nvSpPr>
          <p:spPr>
            <a:xfrm flipV="1">
              <a:off x="4932000" y="176040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75"/>
            <p:cNvSpPr/>
            <p:nvPr/>
          </p:nvSpPr>
          <p:spPr>
            <a:xfrm flipV="1">
              <a:off x="4932000" y="1658880"/>
              <a:ext cx="1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6"/>
            <p:cNvSpPr/>
            <p:nvPr/>
          </p:nvSpPr>
          <p:spPr>
            <a:xfrm flipV="1">
              <a:off x="4932000" y="1547640"/>
              <a:ext cx="18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7"/>
            <p:cNvSpPr/>
            <p:nvPr/>
          </p:nvSpPr>
          <p:spPr>
            <a:xfrm>
              <a:off x="4932000" y="3092400"/>
              <a:ext cx="101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78"/>
            <p:cNvSpPr/>
            <p:nvPr/>
          </p:nvSpPr>
          <p:spPr>
            <a:xfrm>
              <a:off x="4859280" y="1933560"/>
              <a:ext cx="145800" cy="803160"/>
            </a:xfrm>
            <a:custGeom>
              <a:avLst/>
              <a:gdLst>
                <a:gd name="textAreaLeft" fmla="*/ 19440 w 145800"/>
                <a:gd name="textAreaRight" fmla="*/ 126360 w 145800"/>
                <a:gd name="textAreaTop" fmla="*/ 19440 h 803160"/>
                <a:gd name="textAreaBottom" fmla="*/ 783720 h 803160"/>
              </a:gdLst>
              <a:ahLst/>
              <a:rect l="textAreaLeft" t="textAreaTop" r="textAreaRight" b="textAreaBottom"/>
              <a:pathLst>
                <a:path w="21600" h="118747">
                  <a:moveTo>
                    <a:pt x="9861" y="0"/>
                  </a:moveTo>
                  <a:arcTo wR="9861" hR="9861" stAng="16200000" swAng="-5400000"/>
                  <a:lnTo>
                    <a:pt x="0" y="108886"/>
                  </a:lnTo>
                  <a:arcTo wR="9861" hR="9861" stAng="10800000" swAng="-5400000"/>
                  <a:lnTo>
                    <a:pt x="11739" y="118747"/>
                  </a:lnTo>
                  <a:arcTo wR="9861" hR="9861" stAng="5400000" swAng="-5400000"/>
                  <a:lnTo>
                    <a:pt x="21600" y="9861"/>
                  </a:lnTo>
                  <a:arcTo wR="9861" hR="9861" stAng="0" swAng="-5400000"/>
                  <a:close/>
                </a:path>
              </a:pathLst>
            </a:custGeom>
            <a:solidFill>
              <a:srgbClr val="cce4de"/>
            </a:solidFill>
            <a:ln w="9360">
              <a:solidFill>
                <a:srgbClr val="cce4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79"/>
            <p:cNvSpPr/>
            <p:nvPr/>
          </p:nvSpPr>
          <p:spPr>
            <a:xfrm>
              <a:off x="4931280" y="196200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80"/>
            <p:cNvSpPr/>
            <p:nvPr/>
          </p:nvSpPr>
          <p:spPr>
            <a:xfrm>
              <a:off x="4933440" y="2055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81"/>
            <p:cNvSpPr/>
            <p:nvPr/>
          </p:nvSpPr>
          <p:spPr>
            <a:xfrm>
              <a:off x="4927320" y="2151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82"/>
            <p:cNvSpPr/>
            <p:nvPr/>
          </p:nvSpPr>
          <p:spPr>
            <a:xfrm>
              <a:off x="4932000" y="2244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83"/>
            <p:cNvSpPr/>
            <p:nvPr/>
          </p:nvSpPr>
          <p:spPr>
            <a:xfrm>
              <a:off x="4930560" y="2339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84"/>
            <p:cNvSpPr/>
            <p:nvPr/>
          </p:nvSpPr>
          <p:spPr>
            <a:xfrm>
              <a:off x="4930560" y="2552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5"/>
            <p:cNvSpPr/>
            <p:nvPr/>
          </p:nvSpPr>
          <p:spPr>
            <a:xfrm>
              <a:off x="5293440" y="3551040"/>
              <a:ext cx="59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erforman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6"/>
            <p:cNvSpPr/>
            <p:nvPr/>
          </p:nvSpPr>
          <p:spPr>
            <a:xfrm>
              <a:off x="5880960" y="3551040"/>
              <a:ext cx="69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7"/>
            <p:cNvSpPr/>
            <p:nvPr/>
          </p:nvSpPr>
          <p:spPr>
            <a:xfrm>
              <a:off x="5936400" y="3551040"/>
              <a:ext cx="28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sk(s)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8"/>
            <p:cNvSpPr/>
            <p:nvPr/>
          </p:nvSpPr>
          <p:spPr>
            <a:xfrm>
              <a:off x="7046280" y="3551040"/>
              <a:ext cx="720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Other Evidence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89"/>
            <p:cNvSpPr/>
            <p:nvPr/>
          </p:nvSpPr>
          <p:spPr>
            <a:xfrm>
              <a:off x="5178240" y="1776240"/>
              <a:ext cx="1649520" cy="1316160"/>
            </a:xfrm>
            <a:prstGeom prst="roundRect">
              <a:avLst>
                <a:gd name="adj" fmla="val 10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90"/>
            <p:cNvSpPr/>
            <p:nvPr/>
          </p:nvSpPr>
          <p:spPr>
            <a:xfrm>
              <a:off x="6914880" y="3470040"/>
              <a:ext cx="1641600" cy="1322640"/>
            </a:xfrm>
            <a:prstGeom prst="roundRect">
              <a:avLst>
                <a:gd name="adj" fmla="val 100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91"/>
            <p:cNvSpPr/>
            <p:nvPr/>
          </p:nvSpPr>
          <p:spPr>
            <a:xfrm>
              <a:off x="5171760" y="3477960"/>
              <a:ext cx="1649520" cy="1322640"/>
            </a:xfrm>
            <a:prstGeom prst="roundRect">
              <a:avLst>
                <a:gd name="adj" fmla="val 100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95"/>
          <p:cNvSpPr/>
          <p:nvPr/>
        </p:nvSpPr>
        <p:spPr>
          <a:xfrm>
            <a:off x="4615560" y="2331360"/>
            <a:ext cx="41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hat are the big id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6"/>
          <p:cNvSpPr/>
          <p:nvPr/>
        </p:nvSpPr>
        <p:spPr>
          <a:xfrm>
            <a:off x="4757400" y="403776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hat’s the evid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8"/>
          <p:cNvSpPr/>
          <p:nvPr/>
        </p:nvSpPr>
        <p:spPr>
          <a:xfrm>
            <a:off x="5580000" y="335772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ffffff"/>
                </a:solidFill>
                <a:latin typeface="Arial"/>
              </a:rPr>
              <a:t>Assessment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8"/>
          <p:cNvSpPr/>
          <p:nvPr/>
        </p:nvSpPr>
        <p:spPr>
          <a:xfrm>
            <a:off x="4745160" y="5357160"/>
            <a:ext cx="39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w will we get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89"/>
          <p:cNvGrpSpPr/>
          <p:nvPr/>
        </p:nvGrpSpPr>
        <p:grpSpPr>
          <a:xfrm>
            <a:off x="380880" y="1219320"/>
            <a:ext cx="4266720" cy="1447200"/>
            <a:chOff x="380880" y="1219320"/>
            <a:chExt cx="4266720" cy="1447200"/>
          </a:xfrm>
        </p:grpSpPr>
        <p:sp>
          <p:nvSpPr>
            <p:cNvPr id="248" name="Rectangle 190"/>
            <p:cNvSpPr/>
            <p:nvPr/>
          </p:nvSpPr>
          <p:spPr>
            <a:xfrm>
              <a:off x="380880" y="1219320"/>
              <a:ext cx="4100040" cy="14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pack the content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cus on big id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91"/>
            <p:cNvSpPr/>
            <p:nvPr/>
          </p:nvSpPr>
          <p:spPr>
            <a:xfrm flipH="1" flipV="1">
              <a:off x="3225600" y="2252520"/>
              <a:ext cx="1422000" cy="2070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92"/>
          <p:cNvGrpSpPr/>
          <p:nvPr/>
        </p:nvGrpSpPr>
        <p:grpSpPr>
          <a:xfrm>
            <a:off x="0" y="3141720"/>
            <a:ext cx="5333760" cy="1218960"/>
            <a:chOff x="0" y="3141720"/>
            <a:chExt cx="5333760" cy="1218960"/>
          </a:xfrm>
        </p:grpSpPr>
        <p:sp>
          <p:nvSpPr>
            <p:cNvPr id="251" name="Rectangle 193"/>
            <p:cNvSpPr/>
            <p:nvPr/>
          </p:nvSpPr>
          <p:spPr>
            <a:xfrm>
              <a:off x="0" y="3141720"/>
              <a:ext cx="483048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alyse multiple sources of evidence, aligned with Stag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94"/>
            <p:cNvSpPr/>
            <p:nvPr/>
          </p:nvSpPr>
          <p:spPr>
            <a:xfrm flipH="1">
              <a:off x="4367520" y="3711600"/>
              <a:ext cx="966240" cy="17388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5"/>
          <p:cNvGrpSpPr/>
          <p:nvPr/>
        </p:nvGrpSpPr>
        <p:grpSpPr>
          <a:xfrm>
            <a:off x="0" y="4786200"/>
            <a:ext cx="5162040" cy="1067040"/>
            <a:chOff x="0" y="4786200"/>
            <a:chExt cx="5162040" cy="1067040"/>
          </a:xfrm>
        </p:grpSpPr>
        <p:sp>
          <p:nvSpPr>
            <p:cNvPr id="254" name="Rectangle 196"/>
            <p:cNvSpPr/>
            <p:nvPr/>
          </p:nvSpPr>
          <p:spPr>
            <a:xfrm>
              <a:off x="0" y="4786200"/>
              <a:ext cx="44751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lan the learning experiences implied from Stages 1 &amp;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7"/>
            <p:cNvSpPr/>
            <p:nvPr/>
          </p:nvSpPr>
          <p:spPr>
            <a:xfrm flipH="1">
              <a:off x="4266720" y="5014800"/>
              <a:ext cx="895320" cy="45720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198"/>
          <p:cNvSpPr/>
          <p:nvPr/>
        </p:nvSpPr>
        <p:spPr>
          <a:xfrm>
            <a:off x="1332000" y="260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“big ideas” of each s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Desired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23:08:51Z</dcterms:created>
  <dc:creator>Celia Abood</dc:creator>
  <dc:description/>
  <dc:language>en-US</dc:language>
  <cp:lastModifiedBy>det</cp:lastModifiedBy>
  <dcterms:modified xsi:type="dcterms:W3CDTF">2009-05-03T22:35:16Z</dcterms:modified>
  <cp:revision>31</cp:revision>
  <dc:subject/>
  <dc:title>Slide 1</dc:title>
</cp:coreProperties>
</file>